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8F63-979C-4A3F-B465-D55932F1A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5F66-65DA-4B72-BA9C-CA18B7C3D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7658-7A4C-4065-A6DA-C32680731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9C91-6A07-45A8-B0B4-E51691BAE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0E11E-7493-4A65-9620-F03E8CE9E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17759-D3EB-4571-8197-5461E946B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BFAD1-0E28-48F7-8719-9CE652080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BE6F8-D8BC-477D-A3FD-575E39E20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35680-119D-4084-B442-59675BDA4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A0014-A0A5-4BE8-8BF2-B1473F481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FC4F4-1E2E-46AA-9216-C1E00BB0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B967-793C-469A-8E99-46D59FBB1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F9FC6-E3A5-497C-AE78-756DB74E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82ABC-CF26-4ABC-B2F4-C069B23B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85C03-886F-4098-89AF-DA6A8B5BF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F48FA-508A-4628-84CB-8EA6F71EB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E2BC8-5305-46B8-A63B-C8F2D5CFC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597B-737B-447F-A34B-AF5653773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673C-B658-4BDB-838B-77D1E001B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57D7-EF15-4442-80C5-ECBE072FF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E2CA-6204-411C-B486-BE662B839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328A-9014-43E1-8AE1-0429B26F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1814-59E4-4CF2-9C43-42C1352E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6B4F-ABE0-460C-844B-67732381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8AA51-131A-40FB-BD4F-BE8B0994526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66CB7-2A89-4668-98B3-883F32CEC87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Sources of Instructional Goal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66320" y="17524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ld – What does the child need to know developmentally?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ciety – What does the child need to know in order to be able to function well in our society?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ademic Disciplines – What content within a discipline is important to teach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nshine State Standa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Cognitive Domai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jectives that deals with level of thinking required of the stud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objectives in the                        schools tend to come                             from the cognitive                             domai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gnitive domain most referred to: Bloom’s Taxonomy of Educational Objectives; six hierarchical level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5334120" y="2971800"/>
            <a:ext cx="2349360" cy="1523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-152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Cognitive Domai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32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w Model:  Anderson and Krathwohl’s Taxonomy (2000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ery similar to Bloom’s Taxonomy, except for switching of the two highest levels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3" descr="Two cognitive domains.png"/>
          <p:cNvPicPr/>
          <p:nvPr/>
        </p:nvPicPr>
        <p:blipFill>
          <a:blip r:embed="rId1"/>
          <a:stretch/>
        </p:blipFill>
        <p:spPr>
          <a:xfrm>
            <a:off x="914400" y="3276720"/>
            <a:ext cx="7543800" cy="3209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Levels of Bloom’s Taxonomy of Educational Objectives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nowledge:  requires students to memorize and recall inform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rehension:  requires students to demonstrate some level of understan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plication:  requires students to use previously acquired information in a setting other than that in which it was learned.  Students are required to transfer their skills to another setting/situation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Levels of Bloom’s Taxonomy of Educational Objectives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alysis:  requires students to draw relationships among ideas or to compare/contrast; break down informa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ynthesis:  requires students to draw from what he/she has learned and produce something unique.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Highest level in Anderson and Krathwohl’s mode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valuation:  requires students to form judgments about the value or worth of something and to substantiate his/her judgment.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ext to the highest level in Anderson and Krathwohl’s model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Three-Phase Approach </a:t>
            </a: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for Teaching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nning – select goal and approach means by which to achieve 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lementing – actual performance of a strate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aluating –                         determining if                        instruction has                              been successfu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4800600" y="3971880"/>
            <a:ext cx="3076560" cy="2048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Home Base Group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tremely appropriate at the upper elementary, middle school, and lower high schools leve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rposefully-arranged groups to work together on projects and other such assignments over a period of time.  May or may not meet outside of class time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Group Guidelines/Rul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ter the groups are formed, as a group you are to come up with a team name and motto or slog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n come up with                      guidelines/rules by                              which your group will                       opera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group members should contribute to the list and all members should agree on the guidelines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5181480" y="3149640"/>
            <a:ext cx="2819520" cy="1879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Domains of Learning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ch lesson plan must include objectives, or statements indicating what students should be able to do at the end of a period of instructio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ch objective falls within at least one of three domains (or categories) of learning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Affective Domai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jectives reflecting underlying emotions, feelings, or values rather than level of thinking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: 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The music student will appreciate music from the Baroque period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3505320" y="4876920"/>
            <a:ext cx="2361960" cy="1574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Hierarchical Levels of the Affective Domai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ceiving (Attending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pon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lu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gan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racterization by a value or value complex:  One behaves in a manner consistent with one’s value system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Psychomotor Domai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jectives in this domain deal with movement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: 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The dance student will perform all 5 basic positions of ballet with 100% accuracy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5715000" y="4419720"/>
            <a:ext cx="1920960" cy="1371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Psychomotor Domain Hierarchy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ving – gross motor contro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ipulating – fine motor coordin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municating – communication of ideas and feeli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eating – represents the student’s coordination of thinking, learning, and behaving in all three domai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4T13:25:38Z</dcterms:created>
  <dc:creator> </dc:creator>
  <dc:description/>
  <dc:language>en-US</dc:language>
  <cp:lastModifiedBy>Karen Verkler</cp:lastModifiedBy>
  <dcterms:modified xsi:type="dcterms:W3CDTF">2013-08-26T16:16:42Z</dcterms:modified>
  <cp:revision>204</cp:revision>
  <dc:subject/>
  <dc:title>Slide 1</dc:title>
</cp:coreProperties>
</file>